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B8E-FD67-43F6-AC70-82FE3176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53B-AF93-484A-8D56-C6770AF5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AA0-0012-48C2-BDA7-BA1F754C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109-ECCF-4D61-9698-4400E2E3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F41-D659-459E-B8B6-3FBB8B4B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865-9B4D-4E2C-A807-6DE5E78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D53-3151-4D27-A9A2-F0C4F18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487-27D1-4029-9FE0-D77375EB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3CC-B456-4478-ADE7-C470CD80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40A-FD04-4AF3-BB0D-0E7DFD95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5D4-C8DB-481D-AA23-5C7B7A2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275-8F9C-4459-9667-74CAC83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FA530-188D-404F-A625-08224D189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2EA42-814C-4EF8-975E-469EFFCEA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71600" y="0"/>
            <a:ext cx="67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932040" y="1538280"/>
            <a:ext cx="11008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1465200" y="517680"/>
            <a:ext cx="125474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0265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6:48:03Z</dcterms:created>
  <dc:creator>IT User</dc:creator>
  <dc:description/>
  <dc:language>en-US</dc:language>
  <cp:lastModifiedBy>IT User</cp:lastModifiedBy>
  <dcterms:modified xsi:type="dcterms:W3CDTF">2011-05-10T17:19:37Z</dcterms:modified>
  <cp:revision>5</cp:revision>
  <dc:subject/>
  <dc:title>Slide 1</dc:title>
</cp:coreProperties>
</file>